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BF3-9ED8-4CA4-917A-C068C03B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EF7-40C2-484F-9237-D84412C9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985-047D-4B32-9C46-16E3ADF6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360-5B7C-4657-9859-9DAAF006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2B6-3967-469D-B05D-52803BD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B79-5462-415E-928E-E9408BE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FF2-8BD7-46D1-9385-F554580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B9C-3AF5-4F85-872D-240C44C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CED-C3EB-4A94-9C7E-AF7152E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204-3D7E-472E-AAC4-922BE28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7F3-4AC3-42B3-9FF4-FA20675D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1DF-5280-4803-9FDF-70249E7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7E2-78E5-4499-B1A3-22BE6388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lmo.pntic.mec.es/jtac0001/historia/exploradores/animaciones/colonsgifanimados.gi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-3ZNnsC4q4" TargetMode="External"/><Relationship Id="rId2" Type="http://schemas.openxmlformats.org/officeDocument/2006/relationships/hyperlink" Target="http://www.youtube.com/watch?v=6-3ZNnsC4q4" TargetMode="External"/><Relationship Id="rId3" Type="http://schemas.openxmlformats.org/officeDocument/2006/relationships/hyperlink" Target="http://www.youtube.com/watch?v=6-3ZNnsC4q4" TargetMode="External"/><Relationship Id="rId4" Type="http://schemas.openxmlformats.org/officeDocument/2006/relationships/hyperlink" Target="http://www.youtube.com/watch?v=6-3ZNnsC4q4" TargetMode="External"/><Relationship Id="rId5" Type="http://schemas.openxmlformats.org/officeDocument/2006/relationships/hyperlink" Target="http://www.youtube.com/watch?v=6-3ZNnsC4q4" TargetMode="External"/><Relationship Id="rId6" Type="http://schemas.openxmlformats.org/officeDocument/2006/relationships/hyperlink" Target="http://www.youtube.com/watch?v=6-3ZNnsC4q4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98900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 amets baten bil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ida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" y="1628640"/>
            <a:ext cx="9074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meriketara lehen bidaia 1492aren Abuztuko 3an,  hasi zen Palos de laFronterako portutik hiru ontzi, Santa Maria, Pinta eta Niña flota bat osatzek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Kanariar uharteetan, non konponketa batzuk egin zi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86920" y="1341360"/>
            <a:ext cx="7201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Kolonen hirugarren bidaiarako ontzien horniduraz arduratu zen, eta lanbide hark lurralde berriak ezagutzeko sortu zion gogoak itsasketara bultzatu zuen.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0px-Amerigo_Vespucci"/>
          <p:cNvPicPr/>
          <p:nvPr/>
        </p:nvPicPr>
        <p:blipFill>
          <a:blip r:embed="rId1"/>
          <a:stretch/>
        </p:blipFill>
        <p:spPr>
          <a:xfrm>
            <a:off x="2484360" y="342900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835280" y="476280"/>
            <a:ext cx="5257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eriko Vespuzi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los-viajes-de-colon"/>
          <p:cNvPicPr/>
          <p:nvPr/>
        </p:nvPicPr>
        <p:blipFill>
          <a:blip r:embed="rId1"/>
          <a:stretch/>
        </p:blipFill>
        <p:spPr>
          <a:xfrm>
            <a:off x="179280" y="2205000"/>
            <a:ext cx="5399280" cy="3430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5940360" y="2708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ehen,  bigarren, hirugarren eta laugarren bidaiaren mapa ikus dezakegu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56000" y="692280"/>
            <a:ext cx="36716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Organization Chart 2"/>
          <p:cNvGrpSpPr/>
          <p:nvPr/>
        </p:nvGrpSpPr>
        <p:grpSpPr>
          <a:xfrm>
            <a:off x="468360" y="260280"/>
            <a:ext cx="8281440" cy="6092640"/>
            <a:chOff x="468360" y="260280"/>
            <a:chExt cx="8281440" cy="6092640"/>
          </a:xfrm>
        </p:grpSpPr>
        <p:cxnSp>
          <p:nvCxnSpPr>
            <p:cNvPr id="85" name="_s1028"/>
            <p:cNvCxnSpPr>
              <a:stCxn id="86" idx="1"/>
              <a:endCxn id="87" idx="2"/>
            </p:cNvCxnSpPr>
            <p:nvPr/>
          </p:nvCxnSpPr>
          <p:spPr>
            <a:xfrm rot="10800000">
              <a:off x="6680880" y="5046840"/>
              <a:ext cx="295560" cy="87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029"/>
            <p:cNvCxnSpPr>
              <a:stCxn id="87" idx="1"/>
              <a:endCxn id="89" idx="2"/>
            </p:cNvCxnSpPr>
            <p:nvPr/>
          </p:nvCxnSpPr>
          <p:spPr>
            <a:xfrm rot="10800000">
              <a:off x="5498640" y="3741120"/>
              <a:ext cx="294480" cy="87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30"/>
            <p:cNvCxnSpPr>
              <a:stCxn id="89" idx="0"/>
              <a:endCxn id="91" idx="2"/>
            </p:cNvCxnSpPr>
            <p:nvPr/>
          </p:nvCxnSpPr>
          <p:spPr>
            <a:xfrm flipV="1">
              <a:off x="549936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1"/>
            <p:cNvCxnSpPr>
              <a:stCxn id="93" idx="0"/>
              <a:endCxn id="94" idx="2"/>
            </p:cNvCxnSpPr>
            <p:nvPr/>
          </p:nvCxnSpPr>
          <p:spPr>
            <a:xfrm flipV="1">
              <a:off x="342756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32"/>
            <p:cNvCxnSpPr>
              <a:stCxn id="96" idx="0"/>
              <a:endCxn id="97" idx="2"/>
            </p:cNvCxnSpPr>
            <p:nvPr/>
          </p:nvCxnSpPr>
          <p:spPr>
            <a:xfrm flipV="1">
              <a:off x="1356840" y="2436840"/>
              <a:ext cx="1440" cy="43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3"/>
            <p:cNvCxnSpPr>
              <a:stCxn id="91" idx="0"/>
              <a:endCxn id="99" idx="2"/>
            </p:cNvCxnSpPr>
            <p:nvPr/>
          </p:nvCxnSpPr>
          <p:spPr>
            <a:xfrm flipV="1" rot="16200000">
              <a:off x="4245840" y="311040"/>
              <a:ext cx="435240" cy="2071800"/>
            </a:xfrm>
            <a:prstGeom prst="bentConnector3">
              <a:avLst>
                <a:gd name="adj1" fmla="val 23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34"/>
            <p:cNvCxnSpPr>
              <a:stCxn id="94" idx="0"/>
              <a:endCxn id="99" idx="2"/>
            </p:cNvCxnSpPr>
            <p:nvPr/>
          </p:nvCxnSpPr>
          <p:spPr>
            <a:xfrm flipV="1">
              <a:off x="3427560" y="1129320"/>
              <a:ext cx="1440" cy="43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5"/>
            <p:cNvCxnSpPr>
              <a:stCxn id="97" idx="0"/>
              <a:endCxn id="99" idx="2"/>
            </p:cNvCxnSpPr>
            <p:nvPr/>
          </p:nvCxnSpPr>
          <p:spPr>
            <a:xfrm flipH="1" flipV="1" rot="5400000">
              <a:off x="2174760" y="311400"/>
              <a:ext cx="435240" cy="2071440"/>
            </a:xfrm>
            <a:prstGeom prst="bentConnector3">
              <a:avLst>
                <a:gd name="adj1" fmla="val 23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1036"/>
            <p:cNvSpPr/>
            <p:nvPr/>
          </p:nvSpPr>
          <p:spPr>
            <a:xfrm>
              <a:off x="2539080" y="260280"/>
              <a:ext cx="1775520" cy="869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Comic Sans MS"/>
                </a:rPr>
                <a:t>Kolonen aurkikuntzak</a:t>
              </a:r>
              <a:endParaRPr b="0" lang="en-US" sz="21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7" name="_s1037"/>
            <p:cNvSpPr/>
            <p:nvPr/>
          </p:nvSpPr>
          <p:spPr>
            <a:xfrm>
              <a:off x="468360" y="1565640"/>
              <a:ext cx="177552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Zer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4" name="_s1038"/>
            <p:cNvSpPr/>
            <p:nvPr/>
          </p:nvSpPr>
          <p:spPr>
            <a:xfrm>
              <a:off x="2539080" y="1565640"/>
              <a:ext cx="177552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Noiz aurkitu zuen?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1" name="_s1039"/>
            <p:cNvSpPr/>
            <p:nvPr/>
          </p:nvSpPr>
          <p:spPr>
            <a:xfrm>
              <a:off x="4610160" y="1565640"/>
              <a:ext cx="177516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Zein zen bere helburua?</a:t>
              </a:r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469080" y="2871720"/>
              <a:ext cx="177480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Amerika               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3" name="_s1041"/>
            <p:cNvSpPr/>
            <p:nvPr/>
          </p:nvSpPr>
          <p:spPr>
            <a:xfrm>
              <a:off x="2539800" y="287172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492an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9" name="_s1042"/>
            <p:cNvSpPr/>
            <p:nvPr/>
          </p:nvSpPr>
          <p:spPr>
            <a:xfrm>
              <a:off x="4610880" y="287172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Comic Sans MS"/>
                </a:rPr>
                <a:t>Indiara iristea</a:t>
              </a:r>
              <a:endParaRPr b="0" lang="en-US" sz="23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7" name="_s1043"/>
            <p:cNvSpPr/>
            <p:nvPr/>
          </p:nvSpPr>
          <p:spPr>
            <a:xfrm>
              <a:off x="5793120" y="4177440"/>
              <a:ext cx="1774440" cy="870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omic Sans MS"/>
                </a:rPr>
                <a:t>Zertarako?</a:t>
              </a:r>
              <a:endParaRPr b="0" lang="en-US" sz="2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86" name="_s1044"/>
            <p:cNvSpPr/>
            <p:nvPr/>
          </p:nvSpPr>
          <p:spPr>
            <a:xfrm>
              <a:off x="6975360" y="5483160"/>
              <a:ext cx="1774440" cy="869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Espeziak bilatzeko</a:t>
              </a:r>
              <a:endParaRPr b="0" lang="en-US" sz="2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81440" y="691920"/>
            <a:ext cx="464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merikaren aurkikuntza 1492ko urriaren 12an europarrek ,Kristobal Kolon buru, zegoela aurkitu zu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olon3"/>
          <p:cNvPicPr/>
          <p:nvPr/>
        </p:nvPicPr>
        <p:blipFill>
          <a:blip r:embed="rId1"/>
          <a:stretch/>
        </p:blipFill>
        <p:spPr>
          <a:xfrm>
            <a:off x="478800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segundo-viaje-colon"/>
          <p:cNvPicPr/>
          <p:nvPr/>
        </p:nvPicPr>
        <p:blipFill>
          <a:blip r:embed="rId2"/>
          <a:stretch/>
        </p:blipFill>
        <p:spPr>
          <a:xfrm>
            <a:off x="179280" y="3645000"/>
            <a:ext cx="3745080" cy="2535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572000" y="3716280"/>
            <a:ext cx="37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Comic Sans MS"/>
              </a:rPr>
              <a:t>Asiara iritsi zirela pentsatu zuten, baina Karibeko itsasoko Guanahani uhartera iritzi zire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919400" cy="626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35640" y="620640"/>
            <a:ext cx="3260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Hau da kolonen arukikuntzen mapa 1540an kolon hiltzean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ken, Maien eta Azteken erreinuak aurkitu zituen, eta Kolonaurrekoak deitu zituen, hau da, Kolon baino lehenago zeudenak.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556000" y="4869000"/>
            <a:ext cx="38480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AKIN, AITOR, AN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RAY, DANI, NAHIKARI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f6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ª LUIS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f6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826920" y="1268280"/>
            <a:ext cx="6985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010f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KAERA</a:t>
            </a:r>
            <a:endParaRPr b="0" lang="en-US" sz="1800" spc="1" strike="noStrike">
              <a:ln w="9360">
                <a:solidFill>
                  <a:srgbClr val="1010f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00000" y="54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156360" y="386064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812000" y="476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0" y="458136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524720" y="4653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7885080" y="220500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2627280" y="260280"/>
            <a:ext cx="107964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4788000" y="333360"/>
            <a:ext cx="1079280" cy="107964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403280" y="5229360"/>
            <a:ext cx="1079640" cy="1079280"/>
          </a:xfrm>
          <a:prstGeom prst="smileyFace">
            <a:avLst>
              <a:gd name="adj" fmla="val 9282"/>
            </a:avLst>
          </a:prstGeom>
          <a:solidFill>
            <a:srgbClr val="0af637"/>
          </a:solidFill>
          <a:ln w="9360">
            <a:solidFill>
              <a:srgbClr val="101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OLONEN ITSASONTZ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DA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URKIKUNT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333360"/>
            <a:ext cx="42483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rkibid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563640" y="1484280"/>
            <a:ext cx="48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Kolon Genovan 1541an jaio zen eta 1506an hil 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238560" cy="303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4365720"/>
            <a:ext cx="9144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xikitan hasi zen nabigazioan ibiltzeko gogoarekin eta oso gazte aritu zen itsasmutil lanetan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ografia ikasi zuen Pisan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35280" y="18900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ograf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26028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sko izan ziren, Kristobal Kolonek eginiko bidaiak. Apunteak eta idatzizko notak egiten jaioa zen eta, honela, berak eginiko hainbat bidaia kontatzen ditu. 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4400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472000" cy="4322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012000" y="2637000"/>
            <a:ext cx="3132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480an Felipa Muñiz de Perestrellorekin 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zkondu zen Portugalen; jatorri nobleko dama zen eta Kolon bera hala izango zen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6840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atch?v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6-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3ZNnsC4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050920" y="3141720"/>
            <a:ext cx="45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gundoak: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00 – 0:15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29 – 0:40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0:57 - 1:06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:31 – 1:53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7280" y="404640"/>
            <a:ext cx="6912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LON HIRU ITSASONTZI ER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ITUEN AMERIKET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NI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404640"/>
            <a:ext cx="770436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olonen Itsasontz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62" name="Picture 16" descr="trois-mats-santa-maria-gd"/>
          <p:cNvPicPr/>
          <p:nvPr/>
        </p:nvPicPr>
        <p:blipFill>
          <a:blip r:embed="rId1"/>
          <a:stretch/>
        </p:blipFill>
        <p:spPr>
          <a:xfrm>
            <a:off x="5364000" y="3933720"/>
            <a:ext cx="2586240" cy="2284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7"/>
          <p:cNvSpPr/>
          <p:nvPr/>
        </p:nvSpPr>
        <p:spPr>
          <a:xfrm>
            <a:off x="3924360" y="1989000"/>
            <a:ext cx="1368360" cy="93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6443640" y="1484280"/>
            <a:ext cx="1944720" cy="12952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ANTA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TSASONTZIA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258920" y="1844640"/>
            <a:ext cx="1368360" cy="1297080"/>
          </a:xfrm>
          <a:prstGeom prst="rect">
            <a:avLst/>
          </a:prstGeom>
          <a:solidFill>
            <a:srgbClr val="ff98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INTA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RABELA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66" name="Picture 24" descr="hobby-modelismo-carabela-la-pinta-1492-kit-modelismo-naval-ref-22412-de-artesania-latina"/>
          <p:cNvPicPr/>
          <p:nvPr/>
        </p:nvPicPr>
        <p:blipFill>
          <a:blip r:embed="rId2"/>
          <a:stretch/>
        </p:blipFill>
        <p:spPr>
          <a:xfrm>
            <a:off x="324000" y="4149720"/>
            <a:ext cx="2232000" cy="220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ANd9GcSDsEu9Mq_NMgLBJywXexC8-ZztUg-fLzvnK8U79zgZRqUjqFRI"/>
          <p:cNvPicPr/>
          <p:nvPr/>
        </p:nvPicPr>
        <p:blipFill>
          <a:blip r:embed="rId3"/>
          <a:stretch/>
        </p:blipFill>
        <p:spPr>
          <a:xfrm>
            <a:off x="3276720" y="4005360"/>
            <a:ext cx="1828800" cy="25048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7"/>
          <p:cNvSpPr/>
          <p:nvPr/>
        </p:nvSpPr>
        <p:spPr>
          <a:xfrm rot="19345800">
            <a:off x="899640" y="357300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AutoShape 28"/>
          <p:cNvSpPr/>
          <p:nvPr/>
        </p:nvSpPr>
        <p:spPr>
          <a:xfrm rot="19345800">
            <a:off x="3492000" y="335736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AutoShape 29"/>
          <p:cNvSpPr/>
          <p:nvPr/>
        </p:nvSpPr>
        <p:spPr>
          <a:xfrm rot="19345800">
            <a:off x="5940000" y="3284280"/>
            <a:ext cx="1295640" cy="360360"/>
          </a:xfrm>
          <a:prstGeom prst="leftArrow">
            <a:avLst>
              <a:gd name="adj1" fmla="val 50000"/>
              <a:gd name="adj2" fmla="val 89885"/>
            </a:avLst>
          </a:prstGeom>
          <a:solidFill>
            <a:srgbClr val="101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476280"/>
            <a:ext cx="57913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arraio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hen bidaia 1492 abuztuaren  3an irten zen Palos de la Fronteratik (Huel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rcos"/>
          <p:cNvPicPr/>
          <p:nvPr/>
        </p:nvPicPr>
        <p:blipFill>
          <a:blip r:embed="rId1"/>
          <a:stretch/>
        </p:blipFill>
        <p:spPr>
          <a:xfrm>
            <a:off x="1187280" y="1916280"/>
            <a:ext cx="2808360" cy="223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40px-Viajes_de_colon"/>
          <p:cNvPicPr/>
          <p:nvPr/>
        </p:nvPicPr>
        <p:blipFill>
          <a:blip r:embed="rId2"/>
          <a:stretch/>
        </p:blipFill>
        <p:spPr>
          <a:xfrm>
            <a:off x="4932360" y="1989000"/>
            <a:ext cx="3313080" cy="2222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979640" y="54936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idaia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58:48Z</dcterms:created>
  <dc:creator>Ik015111zz</dc:creator>
  <dc:description/>
  <dc:language>en-US</dc:language>
  <cp:lastModifiedBy>ik015111zz</cp:lastModifiedBy>
  <dcterms:modified xsi:type="dcterms:W3CDTF">2012-05-18T06:58:05Z</dcterms:modified>
  <cp:revision>15</cp:revision>
  <dc:subject/>
  <dc:title>Diapositiva 1</dc:title>
</cp:coreProperties>
</file>